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C34-1480-4290-B760-2D31AD2D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B0B-7D53-4104-8E1D-E2010560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F7E-F7B5-4560-9201-42B5509D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3AA-AF89-42AB-BDB0-B7425BD2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240-CEEA-4790-856A-0FF420F4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D7D-DFB7-4EFD-9BE1-8833B379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9F2-4A15-4042-87FC-50E89B4A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F29-851C-4BBE-AB70-1DF5B8C7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969-6F99-4F93-AE5A-9F33F121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222-CBB0-4490-A42B-33AC42E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B89-8392-4A36-8E8D-00776DDD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044-5146-4F62-B4E6-8355AD0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0D24-EA48-4751-BCFA-A9BE95E60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2400" y="278748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mazing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8360" y="136440"/>
            <a:ext cx="741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mazing Grace! How sweet th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at saved a wretch lik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 once was lost, but now am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as blind, but now I see.</a:t>
            </a:r>
            <a:r>
              <a:rPr b="0" lang="pl-PL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3840" y="3429000"/>
            <a:ext cx="79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was grace that taught my heart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d grace my fears reliev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w precious did that grace app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hour I first believed!</a:t>
            </a:r>
            <a:r>
              <a:rPr b="0" lang="pl-PL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6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97120" y="3809880"/>
            <a:ext cx="789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rough many dangers, toils and sn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 have already c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s grace that brought me safe thus 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d grace will lead me home.</a:t>
            </a:r>
            <a:r>
              <a:rPr b="0" lang="pl-PL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196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4560" y="380880"/>
            <a:ext cx="804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en we’ve been there a thousand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right shining as the su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e’ve no less days to sing God’s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an when we first begun.</a:t>
            </a:r>
            <a:r>
              <a:rPr b="0" lang="pl-PL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2286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4720" y="2163600"/>
            <a:ext cx="7413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mazing Grace! How sweet th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at saved a wretch lik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[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 once was lost, but now am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as blind, but now I see.</a:t>
            </a:r>
            <a:r>
              <a:rPr b="0" lang="pl-PL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l-PL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: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8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5:43:07Z</dcterms:created>
  <dc:creator>TrifonTrifonow</dc:creator>
  <dc:description/>
  <dc:language>en-US</dc:language>
  <cp:lastModifiedBy>TrifonTrifonow</cp:lastModifiedBy>
  <dcterms:modified xsi:type="dcterms:W3CDTF">2005-12-28T05:43:26Z</dcterms:modified>
  <cp:revision>1</cp:revision>
  <dc:subject/>
  <dc:title>Slide 1</dc:title>
</cp:coreProperties>
</file>